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5D4B1-F7CC-42DD-A077-95FE2A43D7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21318-6401-421C-9B95-2B7E30D5FA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A8B76-C4DF-4EF7-ABE8-A774038BB5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9434B-B1B7-464F-8CD6-82FD0D6617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F4BB4-D918-4458-9934-8199D93FC7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A3D6B-8D08-4BE5-8AEA-8E16FAE0B0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614D5-5589-410C-B347-2CE954985B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27EF2-15C5-4390-90B3-E7ECDC577C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76A03-3780-4DF0-9585-A8FAA240F1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14744-18CF-48D7-9F2D-90DB7F7272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5F7A4-5BDF-4E67-BCCA-0C8E9B23FD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79FA4-2856-4565-8C9A-76B614DE3B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DADD6-C106-4526-BB47-07AA92C8ED5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916F7-9F00-4921-AAB1-9D67A4F722D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Double Click to 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E83FF-4B65-417E-BFB7-B160B1219FD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2F887-FB6A-401E-B240-2946C4957E9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1BB83-0257-45A2-B865-7498A2E4A76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6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AF0EB-60C1-4352-8889-C3E508A0FAB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Crystal Chilvers</cp:lastModifiedBy>
  <dcterms:modified xsi:type="dcterms:W3CDTF">2011-07-27T14:57:02Z</dcterms:modified>
  <cp:revision>5</cp:revision>
  <dc:subject/>
  <dc:title>&lt;Title&gt;</dc:title>
</cp:coreProperties>
</file>